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8837032"/>
        <c:axId val="86643628"/>
      </c:barChart>
      <c:catAx>
        <c:axId val="8883703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643628"/>
        <c:crosses val="autoZero"/>
        <c:auto val="1"/>
        <c:lblAlgn val="ctr"/>
        <c:lblOffset val="100"/>
        <c:noMultiLvlLbl val="0"/>
      </c:catAx>
      <c:valAx>
        <c:axId val="8664362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83703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2213-6BB6-4F01-822B-8B9850BE9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69C5-1AAB-4CAB-9751-2E969A2A3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E09F-7C04-42EB-82D8-1D3894A92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4163-B064-4E96-A73E-DE4516A4D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DAF8-3B01-46D6-861F-EDBDFF25D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7ED9-DA08-4356-BCE7-C9A9ABFBE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FBEB-647A-4CF7-A7A8-323342FDB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F156-E0BF-4F56-A594-86C020A2B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3EC5-63BF-4971-8F7C-97F957C4A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1107-98FA-4BB8-ACBD-7FEE45CF7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36B1-3864-4B53-BFE8-90A88153B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F537-5D24-4443-9476-2DC66A494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BEE0F5-C966-4439-8CF8-C1A0873125C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