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14135"/>
        <c:axId val="22946617"/>
      </c:barChart>
      <c:catAx>
        <c:axId val="29714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6617"/>
        <c:crosses val="autoZero"/>
        <c:auto val="1"/>
        <c:lblAlgn val="ctr"/>
        <c:lblOffset val="100"/>
        <c:noMultiLvlLbl val="0"/>
      </c:catAx>
      <c:valAx>
        <c:axId val="22946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14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C36-555D-4C84-92B9-B2E1CD06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C85-979F-42A8-9743-98B1535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365-457D-445D-BBAE-A5876D8D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D73-DC7C-4E3E-BBD0-3BF6C08F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91A-022A-4326-8E27-C1102CC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2C7-CC75-4664-A35E-FBE8720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5BC-0966-4EB0-A20C-3516ADC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49B-7193-4F32-A02C-F553CA5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809-2D16-422B-818D-2AC971F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6DC-AEBE-4712-813D-48BE5C41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28E-FCED-47ED-8B68-CDE7DA4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976-940B-451C-8B7C-92DF290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5E67-7F3C-4BA3-A87C-372FEB12A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