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265881"/>
        <c:axId val="54512542"/>
      </c:barChart>
      <c:catAx>
        <c:axId val="872658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512542"/>
        <c:crosses val="autoZero"/>
        <c:auto val="1"/>
        <c:lblAlgn val="ctr"/>
        <c:lblOffset val="100"/>
        <c:noMultiLvlLbl val="0"/>
      </c:catAx>
      <c:valAx>
        <c:axId val="54512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658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B8C-3516-4B18-9830-8A14A96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739-7E30-44E0-89C9-CAF9A4C9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E35-B329-4C4E-91D2-76F5BE98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6D17-0F93-434A-853E-DCAB9F25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4926-E871-4B6D-894B-5BA34186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3F3-6FDA-42D4-B22D-66BE8DD2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66E9-71EC-454B-A1F4-36D84746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3B15-5055-42CA-B863-A91F77F1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4E98-DF8D-4AC0-A561-C211A21B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254-E844-4A0B-A13E-16A4243D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5C69-29D0-44DB-B7B2-A26D1B11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2133-8E11-4A97-945A-B2C592FA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D1E18-94AE-4254-BB02-788D597FD3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