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191068"/>
        <c:axId val="55046651"/>
      </c:barChart>
      <c:catAx>
        <c:axId val="461910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046651"/>
        <c:crosses val="autoZero"/>
        <c:auto val="1"/>
        <c:lblAlgn val="ctr"/>
        <c:lblOffset val="100"/>
        <c:noMultiLvlLbl val="0"/>
      </c:catAx>
      <c:valAx>
        <c:axId val="550466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1910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4FCF-0C50-4F34-A2F5-A1E84AA19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F020-049F-45B0-A7B1-54D74532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6174-D06B-4FAF-864E-8A9F86305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40D0-C5BE-4FCB-A959-693D105B0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31C6-5654-4739-9F7A-EABDFFEB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47DF-AD04-48DF-9303-D17B82E3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FFAA-9221-4956-8BF3-56F60B51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21DA-F7B3-43DF-8130-7FD75D91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33EA-8D70-428A-B911-FED5CFA2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7B8D-BEA6-4C6E-9D64-604285B5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6EE7-943D-4C08-9F45-3CF730F2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4F13-A2DE-4CC5-8CE4-587CEE36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DA7DD4-9564-4DDF-8F35-17A076AF4B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