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464692"/>
        <c:axId val="23094301"/>
      </c:barChart>
      <c:catAx>
        <c:axId val="484646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94301"/>
        <c:crosses val="autoZero"/>
        <c:auto val="1"/>
        <c:lblAlgn val="ctr"/>
        <c:lblOffset val="100"/>
        <c:noMultiLvlLbl val="0"/>
      </c:catAx>
      <c:valAx>
        <c:axId val="230943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646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69BE-F838-46BE-9CC1-949BED13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BD11-7C68-41EC-909F-33F55880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E4FB-FA25-4747-9F6A-A3C29459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0F26-2BC4-4D95-9328-B0711423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1589-879F-4429-ADCD-7792CDB7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D427-5050-4A0D-9C35-88D2AEA2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73C0-8130-4423-BE21-DF002634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3690-D079-4237-B7D5-BF1E0F31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7DEF-B6C3-4AD4-8A78-DC4B38BB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0F44-58A3-4FD7-A08B-9713285B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D1DE-7C6F-4F48-9A66-31381A15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2126-FDEC-4C17-8303-1B92FE21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15FA1-E60D-4124-9FC9-F5D0A277EF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